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8AD1-037F-4BED-B23C-C12CFCE58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8204-1668-48B1-9F27-4C1255AC74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3F10-ABAD-4A18-837B-7F9AE65E48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C569-B07E-4E38-B6D7-554B52D239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7377-20CB-42A5-914F-FC5DAEBB8A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322-EC2C-49B2-88CB-1FF553C3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FCF-BD1C-464D-A034-C06E784D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8C2-6E20-49FF-A5AB-AC66BF29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5A7-7230-4F2F-9655-17525C64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0A12-1B45-458F-A983-8044A5B4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8847-A7D3-4B0E-8DD7-BF30B022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2096-AFAD-44B9-A4C8-6955FC5A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61F5-B28D-4CB7-BA0B-1781BC6A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9288-0203-45EF-BEBB-8F544E2E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78E8-9E83-44A4-95D7-1EDB517A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69BF-69B0-4A8B-95F1-A6E180E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4F9-166B-4C56-8F34-82FA1AB4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649D-82FB-4D8E-85D8-570946E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356E-A398-419F-8C33-99208840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4E81-4FC4-4EF0-BAC8-F12EB476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DB37-E9D1-4A4D-A62A-CA31EC04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CFC9-F68E-4CE5-AA5F-A5E5A225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725-AAF3-4D44-B5DA-4D10C2FF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B79-DA20-4001-A5FA-DDB5FAF6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A30-9A8F-4D1D-BC65-AE42ECAD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3A1-7290-4EF3-A214-E5D37BAA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32C-B5E5-461A-9AAA-D67E144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0C5-9466-4EAC-AC7C-97558E6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FDB-AB42-43E7-8E1F-4F67B8CD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2A13-A281-4F79-895A-D11C67C52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1835-8EEC-46C3-B4DA-94050D96C9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72080" y="51958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÷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6"/>
          <p:cNvSpPr/>
          <p:nvPr/>
        </p:nvSpPr>
        <p:spPr>
          <a:xfrm rot="19946400">
            <a:off x="6962400" y="5698800"/>
            <a:ext cx="1816200" cy="78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o b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tinu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</a:t>
            </a:r>
            <a:r>
              <a:rPr b="0" lang="en-US" sz="3400" spc="-1" strike="noStrike">
                <a:solidFill>
                  <a:srgbClr val="ffc000"/>
                </a:solidFill>
                <a:latin typeface="Times New Roman"/>
              </a:rPr>
              <a:t>on the top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5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</a:t>
              </a:r>
              <a:r>
                <a:rPr b="0" lang="en-US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10cm, 1.5sec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4x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k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Monday (9/20/10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10-09-13T13:29:37Z</dcterms:modified>
  <cp:revision>109</cp:revision>
  <dc:subject/>
  <dc:title>Chapter 3 Scientific Measurement</dc:title>
</cp:coreProperties>
</file>